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05288"/>
        <c:axId val="29633622"/>
      </c:barChart>
      <c:catAx>
        <c:axId val="39705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33622"/>
        <c:crosses val="autoZero"/>
        <c:auto val="1"/>
        <c:lblAlgn val="ctr"/>
        <c:lblOffset val="100"/>
        <c:noMultiLvlLbl val="0"/>
      </c:catAx>
      <c:valAx>
        <c:axId val="29633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5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5D9-72B1-4AEB-A9A2-928BAFE1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2CE-8FDE-4529-862A-EFF8E51E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352-7C88-4E5A-941D-E2EB5822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1D2-95D5-4502-BD1F-F37D5044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E59-FFB8-4EB7-8125-4656BB18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CB3-D940-4198-BDB1-92E2F042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4E2-87C9-4D80-807F-A98B95ED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7C9-E0D5-4FA7-B325-5204C7F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498-ECFF-4449-A857-EA7F222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12A-F4C6-4E9D-8C04-2775B09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C45-03AE-4DAA-994F-DBE12665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515-BEF3-43AB-B36B-8A79CCF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511BC-7F25-421B-9AB7-52EA22FB6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