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4301"/>
        <c:axId val="82998109"/>
      </c:barChart>
      <c:catAx>
        <c:axId val="8172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8109"/>
        <c:crosses val="autoZero"/>
        <c:auto val="1"/>
        <c:lblAlgn val="ctr"/>
        <c:lblOffset val="100"/>
        <c:noMultiLvlLbl val="0"/>
      </c:catAx>
      <c:valAx>
        <c:axId val="82998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C91-B9D6-4181-ABCF-2658EA21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BDA-B7F1-45D7-8943-3BDD39AF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8D5-F552-4955-BEB6-88842FDD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A53-2FE8-483D-A0E1-7695680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33F-C607-4388-B4A0-A84651F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DD5-3E34-4CEC-A910-65598CAB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2AF-8F7B-45F2-A3FF-688DCB32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F87-7047-4EF8-BC65-8E3E635E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BD1-A9C8-4C9A-923A-8092B046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BA2-ED95-4987-BB77-AAF2683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923-3986-4E9D-98EF-EF2F10F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ABB-C78A-4AE4-8E81-A166863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D88A6-36AF-45D2-84E2-0773AD22B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