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82918"/>
        <c:axId val="56981668"/>
      </c:barChart>
      <c:catAx>
        <c:axId val="26982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81668"/>
        <c:crosses val="autoZero"/>
        <c:auto val="1"/>
        <c:lblAlgn val="ctr"/>
        <c:lblOffset val="100"/>
        <c:noMultiLvlLbl val="0"/>
      </c:catAx>
      <c:valAx>
        <c:axId val="56981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82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1FC-C994-463D-828E-BBCEB0FC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3D3-2BBB-4A83-A0CD-E52F7597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D82-D588-4DD8-9366-E65A0C54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655-118D-4C23-8245-0CDCE52A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9A6-839F-4A45-8730-DB652C0B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251-87A4-48B2-B58E-91EA4445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2FC-B71C-47BB-9064-553FFE43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8F5-7560-47FC-81C4-374F38DC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49D-5743-4E5C-A155-D68ACA4B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C69-5447-4C3B-9CC7-5547B49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300-E5AF-4A8E-8212-82094EEB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861-791A-47A8-BFD1-2FCCBE1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4F741-4ACA-487A-BF28-2B9D134406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