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2267"/>
        <c:axId val="4448631"/>
      </c:barChart>
      <c:catAx>
        <c:axId val="27402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631"/>
        <c:crosses val="autoZero"/>
        <c:auto val="1"/>
        <c:lblAlgn val="ctr"/>
        <c:lblOffset val="100"/>
        <c:noMultiLvlLbl val="0"/>
      </c:catAx>
      <c:valAx>
        <c:axId val="4448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2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672-4CC8-4BEA-9BB8-51305687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417-486A-4128-A0A7-AD751CBC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61D-07EF-4ED5-AA73-453836D1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E7D-8342-4B55-BAFA-94B7756B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634B-DA6B-4FC8-B948-F74525D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0AA-9397-45CF-ABA6-3CDA5C67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97D-F0A1-43D7-8B0A-83F887B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0F35-E9E9-4473-94A0-CCA6D3E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AEC-CE71-43EF-B211-78D2CE7B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DEC-E4FF-47B5-9273-48CA33F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3CB-254D-4FAF-8041-E811E08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EB1-D4EA-4AE4-AC86-3FDD8326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8EF1-B365-40EB-8936-2F80EDA5E0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