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26048"/>
        <c:axId val="40852596"/>
      </c:barChart>
      <c:catAx>
        <c:axId val="99226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52596"/>
        <c:crosses val="autoZero"/>
        <c:auto val="1"/>
        <c:lblAlgn val="ctr"/>
        <c:lblOffset val="100"/>
        <c:noMultiLvlLbl val="0"/>
      </c:catAx>
      <c:valAx>
        <c:axId val="40852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26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CA7-20B1-4133-9A7C-D0331897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C2A-5AFE-4A87-9617-C344568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C0E-9467-4E9A-A3F2-3A08D7F0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988-8026-46F6-837C-23A5A164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56E-5DEA-4A1E-97B9-1DF51FB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A7D-8C15-4FCB-BAB0-782C5DD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A00-E964-4368-B1A2-C020487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19B-F4B6-45C4-B961-4D1FA564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DC1-4A67-4BB7-9AF0-91EAECA4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78A-A9E4-4641-A101-BFDFFB0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1EE-43F9-4C8A-8EDF-18826B0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B93-9561-4E4D-97C3-E9BCD06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DD94-3CA1-4D50-A82B-0FACA9AD9C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