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6360"/>
        <c:axId val="37304269"/>
      </c:barChart>
      <c:catAx>
        <c:axId val="7796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04269"/>
        <c:crosses val="autoZero"/>
        <c:auto val="1"/>
        <c:lblAlgn val="ctr"/>
        <c:lblOffset val="100"/>
        <c:noMultiLvlLbl val="0"/>
      </c:catAx>
      <c:valAx>
        <c:axId val="37304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76C-6EF3-4D38-BCF5-1AA3EACA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978-E18B-45FC-99EF-BB3D14BE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BCF-1CA7-43B5-B482-FAFCF37F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648-341E-4658-AA9B-6285E631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3ED-7CF5-4074-9889-E8E1DAA4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196-F5A5-47D1-AE81-20313ADA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022-E687-4FBC-8759-BBD6449F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8BD-190F-465F-8B8E-9C75149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48C-6C8C-4070-AF02-8E94F38D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1D2-3507-4D79-A2A9-63264DA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F32-FDFB-4099-8284-2FADA19E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08C-02EB-4A95-862C-A818FB6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E1C38-ED48-4893-B532-779097D5DF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