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04859"/>
        <c:axId val="28429835"/>
      </c:barChart>
      <c:catAx>
        <c:axId val="81004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29835"/>
        <c:crosses val="autoZero"/>
        <c:auto val="1"/>
        <c:lblAlgn val="ctr"/>
        <c:lblOffset val="100"/>
        <c:noMultiLvlLbl val="0"/>
      </c:catAx>
      <c:valAx>
        <c:axId val="28429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04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5E1-8D17-4802-9F0C-511DBF92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229-B4DF-4945-85BC-60B2B3AD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070-4DC6-490B-8F9B-79165693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E75-33BB-4B73-B414-B4843C13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13A-E71A-4A2C-86F4-AE446574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532-35E2-44B8-A34C-ECF61DB2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D88-224D-4BB1-91C6-6333DB45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5F9-AAEB-4900-9AAE-EC814B8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367-D769-49EE-AC04-3FBE9848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CEC-070E-4590-87D5-A236DBB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388-9C11-4ED0-8147-0AFDFDAC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332-5880-44D3-B34D-B389C33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A9A19-CB41-40A7-AB53-24DB5482BC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