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65044"/>
        <c:axId val="31243968"/>
      </c:barChart>
      <c:catAx>
        <c:axId val="53365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43968"/>
        <c:crosses val="autoZero"/>
        <c:auto val="1"/>
        <c:lblAlgn val="ctr"/>
        <c:lblOffset val="100"/>
        <c:noMultiLvlLbl val="0"/>
      </c:catAx>
      <c:valAx>
        <c:axId val="31243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65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762-F86A-421B-8459-B74A68DB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F24-5867-4D88-B71E-3C84EF71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258-DB6E-49AF-B774-A7ABE611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59B-4080-4032-A4B1-7D631687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929-C961-4BCA-AB6C-3FF13687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17C-4B6E-4093-8733-ADE8BE12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9EE-645D-4724-80B7-7C93E83B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3EC-B5D3-416C-AD9F-22B165F1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95B-416E-4B07-AD47-88240137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BAB-5ED1-41F4-9E8A-1A87F289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6BF-735E-4053-88C6-73D5C235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C31-646B-4C69-97C4-A3C3EEB0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BA350-5BF2-4875-968D-DB17AFCE46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