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6041"/>
        <c:axId val="90335880"/>
      </c:barChart>
      <c:catAx>
        <c:axId val="71860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35880"/>
        <c:crosses val="autoZero"/>
        <c:auto val="1"/>
        <c:lblAlgn val="ctr"/>
        <c:lblOffset val="100"/>
        <c:noMultiLvlLbl val="0"/>
      </c:catAx>
      <c:valAx>
        <c:axId val="90335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60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7DAB-6139-4070-AF5C-9BF2CF35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C3F-B1A4-4F39-BC1C-DEE14282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32D-87A9-430A-832F-A751BF5E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FE3-319D-4FB3-9692-374674F3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7AB5-B6A2-49A1-873C-E8F13C62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4D9-F2C3-4A9A-B831-8AB32D7A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05AE-8A64-4AE8-A944-DF68109C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B0C-0B82-4721-8957-2139B044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B7A7-EF12-488D-8320-7FA4227D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3ECC-7951-4237-AA6E-86F14651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8C34-1E18-43F2-917C-92DE5EC3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EB4-7220-4AFF-98F4-EECCF046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8C440-8ED2-49BB-A7A4-8AD355360C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