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45180"/>
        <c:axId val="55222458"/>
      </c:barChart>
      <c:catAx>
        <c:axId val="22745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2458"/>
        <c:crosses val="autoZero"/>
        <c:auto val="1"/>
        <c:lblAlgn val="ctr"/>
        <c:lblOffset val="100"/>
        <c:noMultiLvlLbl val="0"/>
      </c:catAx>
      <c:valAx>
        <c:axId val="55222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5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B1B-1397-4F0C-8A94-1E3B55EC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608-B5BF-4A81-BEBA-86EE6380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10A-286A-41D2-A7DC-9018F92E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6F1-5144-4630-881C-80E017D6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D1D-0E86-4F41-8953-3D16A47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BEE-A0DB-450A-8A97-B0751DC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74E-850C-442B-9679-EFE3356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DC8-CE51-4E00-997A-F224964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8A5-1D72-4F70-95A1-06D5D2BB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80C-F62C-4861-8A7D-5B0C932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3B4-2445-4BDC-AD4E-AC4EFE1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A65-FBDF-45E9-B194-E5A159E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91690-DB6B-41CF-AD08-8179ACB74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