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78609"/>
        <c:axId val="48152121"/>
      </c:barChart>
      <c:catAx>
        <c:axId val="79478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52121"/>
        <c:crosses val="autoZero"/>
        <c:auto val="1"/>
        <c:lblAlgn val="ctr"/>
        <c:lblOffset val="100"/>
        <c:noMultiLvlLbl val="0"/>
      </c:catAx>
      <c:valAx>
        <c:axId val="48152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8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34A-D2D5-4B1B-A3B0-C105F551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7F7-31E4-47BA-BAA3-E32C89DA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8BD-AC49-4664-9CAD-0ED52D13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D0E-B9E7-46A9-83B1-E7B10EC2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197-3FD4-48FA-B331-89EA00C8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40D-1DF2-40D9-A0F7-595C86F2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E79-4D3D-4853-9DE1-52EE553F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310-5858-4334-A9DA-9D5A62F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40D-06B4-4ECC-B855-5ED9C5B8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CC6-91C1-47B4-B870-FF443253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43C-AA40-46B6-B720-44F7664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5F9-4A2F-4C15-8048-7B378E4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0FE6D-32B0-4C75-97EE-0DB2B3013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