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9883332"/>
        <c:axId val="77546246"/>
      </c:barChart>
      <c:catAx>
        <c:axId val="9988333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7546246"/>
        <c:crosses val="autoZero"/>
        <c:auto val="1"/>
        <c:lblAlgn val="ctr"/>
        <c:lblOffset val="100"/>
        <c:noMultiLvlLbl val="0"/>
      </c:catAx>
      <c:valAx>
        <c:axId val="7754624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88333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B53C0-61EF-40FF-B026-5B2984244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51C1E-F436-4E99-8B09-D49679937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26E64-EB5A-458F-9FE6-41B180BB8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C8847-8948-4A94-A792-F9DCE377D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92DD5-AA94-47AF-9BB6-F568F28F7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4DE79-0601-4616-BF97-D5032BE8D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AF0D8-A7C5-4901-BA78-B07AD608C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F67FE-C27B-4B40-8415-8D33AD7B8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01D9D-057D-433B-A20B-E8C2230FD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AF05E-A2BF-4E8D-B206-9F7C90211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05459-2C64-474E-B966-1005FB51C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ACB37-6943-4873-9B25-0637CE858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8E623C-7471-47FC-86DC-7BF11F706BD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