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844"/>
        <c:axId val="43070936"/>
      </c:barChart>
      <c:catAx>
        <c:axId val="335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70936"/>
        <c:crosses val="autoZero"/>
        <c:auto val="1"/>
        <c:lblAlgn val="ctr"/>
        <c:lblOffset val="100"/>
        <c:noMultiLvlLbl val="0"/>
      </c:catAx>
      <c:valAx>
        <c:axId val="43070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F20-DC6C-4DCE-B65E-CB817F0E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9F3-97BD-439C-9E56-0A0827AA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A56-AC82-44F0-A594-7F317847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D85-ACD0-490B-97CA-94CA42EA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091-08C0-4A0D-AF5A-57CB3A65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4EF-9D5E-4EBA-99E8-7EADD5CA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C06-9733-4B28-AD50-019C4DCC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414-1448-47D4-9BBA-534C49A7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956-63EF-4CF2-8B48-B21B3257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AEA-9875-4DB6-9B83-16E23369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70A-6013-4AC9-8A32-F6B40BB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5E3-4E93-4C37-BD85-71562823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B3A95-654B-4665-A86B-A79D3B3183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