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5232"/>
        <c:axId val="57699801"/>
      </c:barChart>
      <c:catAx>
        <c:axId val="1335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99801"/>
        <c:crosses val="autoZero"/>
        <c:auto val="1"/>
        <c:lblAlgn val="ctr"/>
        <c:lblOffset val="100"/>
        <c:noMultiLvlLbl val="0"/>
      </c:catAx>
      <c:valAx>
        <c:axId val="57699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5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345-3FB2-400A-B1A4-9BB97A58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EFB-8225-4368-9FEE-F19C5675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488-2234-4044-8208-C3D2D13D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FC4-DB15-4560-BB4D-655FF7EA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278-0632-4665-9A04-26F1D183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DC7-C3AB-4AE8-90FC-3A892B84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305-4B6B-402B-A5C9-D1B955D5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B1B-E98A-4B04-A9EC-7C6AD0E1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37C-28D4-41EF-9FC7-009DC3CD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904-9FF8-43AE-8705-DB8B3EAD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707-FD13-4A55-9EA5-356E6FAF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5F5-DBB2-4A6A-A95E-2B2D7F67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A5A77-30C3-4D1E-999E-456702FE12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