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63752"/>
        <c:axId val="44315008"/>
      </c:barChart>
      <c:catAx>
        <c:axId val="33363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15008"/>
        <c:crosses val="autoZero"/>
        <c:auto val="1"/>
        <c:lblAlgn val="ctr"/>
        <c:lblOffset val="100"/>
        <c:noMultiLvlLbl val="0"/>
      </c:catAx>
      <c:valAx>
        <c:axId val="44315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3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9F3-BC9D-48B3-912C-C3AA3A58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9E3-2D67-4C4E-B983-1AD4103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8BC-1565-4AB9-B5DA-259B358A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13F-B591-4A6D-86B9-9C8DC339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029-A6BF-4126-A04A-9271267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865-CD8B-491E-93FF-803BED2B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E92-A9E2-4445-8DB6-E29E9F6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69C-EA99-480D-9602-E745B07D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AC8-E8A3-40D4-A11A-E4301758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804-2EAC-47FA-85E2-ED17494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C63-47AD-4D0A-B6A2-BF4696D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65E-CD10-4A8F-BD64-E009A9C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9F167-11D8-47CA-A3F4-23A76E70C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