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842886"/>
        <c:axId val="78939266"/>
      </c:barChart>
      <c:catAx>
        <c:axId val="568428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39266"/>
        <c:crosses val="autoZero"/>
        <c:auto val="1"/>
        <c:lblAlgn val="ctr"/>
        <c:lblOffset val="100"/>
        <c:noMultiLvlLbl val="0"/>
      </c:catAx>
      <c:valAx>
        <c:axId val="789392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428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05E0-D026-41FB-9BAF-668C17F5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D5A0-14C8-44DC-8B6E-D38BC6DA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14AC-8C77-4B3C-A588-5A5BA75E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7BB8-A73C-4AFA-9B51-05CA1211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4572-636F-43FA-8BD9-B0ACCF95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96A3-436E-419C-AAD8-A5E4A073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E874-E0A2-4F51-A9D4-5A6A0B55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5478-096C-44D3-8BC2-FC31CE45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7488-5AE3-4751-9CAD-780AD692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8428-9051-42D0-9128-F3D52849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80AF-82B8-4DA7-B034-296BA30C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AB50-5C8C-467B-A8F9-48722B01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26A67-F4E6-40B3-8CD1-C1FF0B1CDD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