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6887"/>
        <c:axId val="84755781"/>
      </c:barChart>
      <c:catAx>
        <c:axId val="7686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55781"/>
        <c:crosses val="autoZero"/>
        <c:auto val="1"/>
        <c:lblAlgn val="ctr"/>
        <c:lblOffset val="100"/>
        <c:noMultiLvlLbl val="0"/>
      </c:catAx>
      <c:valAx>
        <c:axId val="84755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6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9A7-9E5B-4025-9BB3-D868E8CF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7F9-8713-469C-BA12-CD990382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CFA-D388-4DC2-88B8-9EB31560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565-FC25-432D-9DD8-1D183F3B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D24-CFA3-4F9A-95BA-C29C3C66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41F-5484-4962-8BAB-48F0ED30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7F0-31D7-4FEB-B08C-F97DFDF6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FA7-B395-40BF-8C37-43A2980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8D0-2E8B-4EFE-B8CA-50B662D4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A03-9FDE-41F9-A46A-88BE34AB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8C7-FABF-4EA3-B0BD-C1F56A64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808-32C4-4B6E-8388-58C7F76B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E4DA2-EA4A-472F-8F3F-F021388AD6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