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40733"/>
        <c:axId val="71973764"/>
      </c:barChart>
      <c:catAx>
        <c:axId val="59340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73764"/>
        <c:crosses val="autoZero"/>
        <c:auto val="1"/>
        <c:lblAlgn val="ctr"/>
        <c:lblOffset val="100"/>
        <c:noMultiLvlLbl val="0"/>
      </c:catAx>
      <c:valAx>
        <c:axId val="71973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40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695B-9B54-4910-9910-A20CBEB2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A18-7E21-4EDA-AAB8-9A8CD065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C8A-0016-4DD2-8A69-DF6C822B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92C-BA84-4D63-AA8A-F530A598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265E-8D57-48AC-85E1-17F83687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56F-A2E4-4C88-9B1B-92ED6B7C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5B7-674E-4C59-BD63-DF376A19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829-8AC2-4C10-83B2-9D793CBB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9BD-F328-4BF6-9A82-2326B3DA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7678-CF0B-44FD-9833-10CAA60E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C0E-3850-4479-8A83-CE4554D8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819-F240-4E61-9C49-D999C86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32DAA-EBC1-4A07-BB90-DC0D7D300C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