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67339"/>
        <c:axId val="91159614"/>
      </c:barChart>
      <c:catAx>
        <c:axId val="79767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59614"/>
        <c:crosses val="autoZero"/>
        <c:auto val="1"/>
        <c:lblAlgn val="ctr"/>
        <c:lblOffset val="100"/>
        <c:noMultiLvlLbl val="0"/>
      </c:catAx>
      <c:valAx>
        <c:axId val="91159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67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143-5599-46E6-9E7A-210F7ECF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F8C-A63D-48B6-9618-301440F5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765-89F6-40AA-86E4-300D3063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004-11FA-4EDD-A936-3DEBFEFB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CBC-E3C2-4DC9-ACBE-97E2FB14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A67-5880-4F13-9A15-F3ADE0EC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F0D-AF98-41E9-AAAF-9AD001A6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16D-B2A6-4A5E-963A-AF6DE0E3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741-A7EF-4144-A513-5EFAD75A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FB8-79E3-4A42-A2B6-99099BCE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C3A-5AEE-4342-AF79-8C98659F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6ED-6DD0-43AC-BA2C-F717E758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A1334-FF80-4795-8506-A1AEC8B631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