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34223"/>
        <c:axId val="48620865"/>
      </c:barChart>
      <c:catAx>
        <c:axId val="88034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0865"/>
        <c:crosses val="autoZero"/>
        <c:auto val="1"/>
        <c:lblAlgn val="ctr"/>
        <c:lblOffset val="100"/>
        <c:noMultiLvlLbl val="0"/>
      </c:catAx>
      <c:valAx>
        <c:axId val="48620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34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1CF-8A35-43B4-B8F0-4E6FB642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DC0-3B1B-4720-AD39-639566E2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E60-FAB0-4B57-B3B5-64537735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78C-9C7D-4A21-934D-2F3A6550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4AF-EA87-400B-8C5A-3C588DA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C2B-7347-4699-9E77-D9E97D9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406-B1B7-47E2-AD54-C70B279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456-009F-4B3B-8602-2962631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E7C-A634-4756-89CD-6BDA2E6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D0C-DAFF-49FA-A1F8-F139371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CF3-0751-431F-897B-72ADABE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81B-9E34-4A4D-945F-AD48F3E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867F-9161-44AD-BD94-9F51548B4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