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05250"/>
        <c:axId val="32035370"/>
      </c:barChart>
      <c:catAx>
        <c:axId val="63305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35370"/>
        <c:crosses val="autoZero"/>
        <c:auto val="1"/>
        <c:lblAlgn val="ctr"/>
        <c:lblOffset val="100"/>
        <c:noMultiLvlLbl val="0"/>
      </c:catAx>
      <c:valAx>
        <c:axId val="32035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05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B44-0159-46B6-B48B-49582713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5B8-4514-4E4E-A83B-6CD172B3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77E-4D5C-489F-8AEF-EA28E6D3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22B-B893-4A38-BA0F-E098EEAB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9C7-EB18-481B-97D0-F788CC92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E3E-1C69-433D-ACE3-59552339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0E3-174D-4C85-AD8C-F0713FED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AD3-5167-4D00-88E5-F6B91E08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153-2089-42AC-A6DF-84424FA2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3D8-92F5-411B-9267-29391E1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6B2-E36D-417E-9547-D4AEE9A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DE3-5F31-4454-A3BD-442A8139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D6989-0542-4CF7-95A9-CEC702F060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