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97704"/>
        <c:axId val="83441220"/>
      </c:barChart>
      <c:catAx>
        <c:axId val="74897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41220"/>
        <c:crosses val="autoZero"/>
        <c:auto val="1"/>
        <c:lblAlgn val="ctr"/>
        <c:lblOffset val="100"/>
        <c:noMultiLvlLbl val="0"/>
      </c:catAx>
      <c:valAx>
        <c:axId val="83441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97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E1E-AD26-4F2F-9248-BF6E3709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571-45CC-4328-AA22-F39EB5EE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17F-6169-49A3-9248-9C488207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08B-EFFF-4051-8EEA-7607980F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853-56D7-4050-BA2A-1986F546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C39-D894-45AF-8005-0405AAA8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74C-760D-4B0E-B5E3-16F0E743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397-E098-4293-B750-C7019088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029-73CC-4CDD-938C-CBB4091E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349-9AC5-40BE-9520-018BD6D7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69B-BE64-445B-AC92-E470100C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319-06D7-4F05-A207-C1CD038C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BACAB-1BC9-4B33-9858-F4EC3645B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