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048271"/>
        <c:axId val="67353477"/>
      </c:barChart>
      <c:catAx>
        <c:axId val="470482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53477"/>
        <c:crosses val="autoZero"/>
        <c:auto val="1"/>
        <c:lblAlgn val="ctr"/>
        <c:lblOffset val="100"/>
        <c:noMultiLvlLbl val="0"/>
      </c:catAx>
      <c:valAx>
        <c:axId val="673534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0482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CC19-37B7-40F8-AD65-4BFD9414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79F7-95F4-4932-AA24-35FCB41E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2352-FA20-47C5-B7E7-D9D17CB85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E769-E7EC-4728-9EF6-1BADD33B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9DA9-F816-40FE-9AC1-4731B36A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41AF-B029-494B-AE40-7889A0EE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516E-F32C-4C7F-982D-276F8325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B822-6CB5-4F10-84EF-0B146A9E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77E1-858A-4919-99AD-2D90F0B8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123C-6762-4FDA-B67B-BC907ED9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A131-6B84-48AB-98A8-8E0136F0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7CAF-7810-4598-9EEE-127E9E14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FC779-5767-4500-8081-D38D33E47F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