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7886"/>
        <c:axId val="60119835"/>
      </c:barChart>
      <c:catAx>
        <c:axId val="8047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19835"/>
        <c:crosses val="autoZero"/>
        <c:auto val="1"/>
        <c:lblAlgn val="ctr"/>
        <c:lblOffset val="100"/>
        <c:noMultiLvlLbl val="0"/>
      </c:catAx>
      <c:valAx>
        <c:axId val="60119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7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E3A-CFA0-479D-9E7F-D6E45AED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D2B-FA4A-4286-9707-EEABCAEE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1FB-B7CE-4FE5-927C-A60A1BA3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CF2-DA21-49CA-9851-4D908E31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5CF-55E3-42AA-9FF1-BE38DC57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217-7D51-49A8-9105-C345AF1D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321-556B-4D99-946E-9A7645B6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D85-DB6C-49A5-A476-9FBF951F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D84-FCBF-4F8D-9596-260937CC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DBD-6631-43FA-A623-C9213186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824-9A27-450E-917D-BF4E54A0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A0B-3A6C-47B2-990E-65F67C5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EED6C-FBD7-4684-833D-64C243DED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