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023907"/>
        <c:axId val="93712345"/>
      </c:barChart>
      <c:catAx>
        <c:axId val="602390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712345"/>
        <c:crosses val="autoZero"/>
        <c:auto val="1"/>
        <c:lblAlgn val="ctr"/>
        <c:lblOffset val="100"/>
        <c:noMultiLvlLbl val="0"/>
      </c:catAx>
      <c:valAx>
        <c:axId val="9371234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2390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E9397-9C2A-4449-8C27-C0263080C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7F32D-90F4-49B0-8D63-DA2F1798F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E196B-E71E-4924-8C51-E7A4C4580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CD09A-1794-4C17-8F8C-843ED941D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61112-78D2-4510-B437-4175DA234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89900-E396-41BC-B266-CDABDC17E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65373-510D-4658-AB59-FD55912DF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7664A-F89A-4CA4-A973-B924D8417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0A8E6-655D-4178-A10B-1CD8A27DC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20CF9-0C68-4C2D-BF15-6574F5E74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40931-7EF7-4075-A15B-2FBACE63C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EEA92-B2A9-4077-9D47-836FE897A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9D312C-2752-46AA-9EB1-D496AEAB701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