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33778"/>
        <c:axId val="73941316"/>
      </c:barChart>
      <c:catAx>
        <c:axId val="79233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41316"/>
        <c:crosses val="autoZero"/>
        <c:auto val="1"/>
        <c:lblAlgn val="ctr"/>
        <c:lblOffset val="100"/>
        <c:noMultiLvlLbl val="0"/>
      </c:catAx>
      <c:valAx>
        <c:axId val="73941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33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DDA-538F-40BA-B53E-0EA3AC2E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B92-D721-4684-940E-A1420342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3BF-EFFB-4578-A5AE-569B77E2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C53-97B6-4843-8BCE-1F8EC71B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0C8-3A95-4EFE-A9D1-470FF080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D32-7B78-41E7-A3DE-D5C4E3B9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548-6A45-494D-AF37-705BC030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B7A-E71B-4064-ACCF-DCEFDE91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90F-A084-4FC2-AA4A-CBE44588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3BA-92A3-48D4-AEF4-9D98CDF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8FC-CB3B-48D9-ABA1-3E440F34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61E-184F-4264-BA83-6FD23800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4E706-0F25-46F0-9228-A7954E187E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