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24649"/>
        <c:axId val="58043552"/>
      </c:barChart>
      <c:catAx>
        <c:axId val="28624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43552"/>
        <c:crosses val="autoZero"/>
        <c:auto val="1"/>
        <c:lblAlgn val="ctr"/>
        <c:lblOffset val="100"/>
        <c:noMultiLvlLbl val="0"/>
      </c:catAx>
      <c:valAx>
        <c:axId val="58043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24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252-464E-4A4E-919B-A98AC787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56B-CF5E-4FD5-BF97-E1CCEF3B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225-47AE-4865-B3BA-95C79B97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9D2-CCA6-4128-87A4-44340B6A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8A2-9E6C-4202-B6DB-B49D2FA2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434-00B2-4CC3-B09A-C04813BD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008-BA83-435D-BF25-E82D5DC3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4D02-404B-4478-9EB1-CAA904E5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434-A885-4D63-AB92-0262771F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32A-B993-4409-88ED-37BE7DD1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833-914C-4C4F-8C2C-B75E6D87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6F8E-EEDC-4449-822C-2A53CDB5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3A875-22FA-4F9E-AAA2-570F3D35C4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