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44338"/>
        <c:axId val="11049090"/>
      </c:barChart>
      <c:catAx>
        <c:axId val="64944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49090"/>
        <c:crosses val="autoZero"/>
        <c:auto val="1"/>
        <c:lblAlgn val="ctr"/>
        <c:lblOffset val="100"/>
        <c:noMultiLvlLbl val="0"/>
      </c:catAx>
      <c:valAx>
        <c:axId val="11049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44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B280-6AF4-42CC-944E-572E06DC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8AC-6294-45C7-999E-92E3A673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CEB-BA6D-40F7-8C21-F963B248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01D-7723-422F-9264-5E1CC993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564-1F7C-4B32-BF70-A5E4E62B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3489-9070-4D11-A0D2-C91C7857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D51C-3067-4223-8425-FC8B34BB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E65-62E1-4511-BD76-B0527613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739-631D-4C2A-A7C8-EE17630A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8544-4F60-4725-A707-3317D21C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41EE-DA9B-4A12-9DFF-81BFE71C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406A-3C40-47A4-AEB7-69C2736E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62961-2848-47C9-A69C-6C5BF08360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