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04418"/>
        <c:axId val="12540175"/>
      </c:barChart>
      <c:catAx>
        <c:axId val="39704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40175"/>
        <c:crosses val="autoZero"/>
        <c:auto val="1"/>
        <c:lblAlgn val="ctr"/>
        <c:lblOffset val="100"/>
        <c:noMultiLvlLbl val="0"/>
      </c:catAx>
      <c:valAx>
        <c:axId val="12540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04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80B-ACBF-42E9-8D77-B038DD11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465-9314-403A-AD01-638D3F1A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901-0236-4BF0-B25F-45DA77EC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E3A-8F91-436E-9F2C-60E88FA3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A72-34F1-4C54-9185-2C979686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956-7C56-4EDC-AC2A-FB738BAF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F62-99CA-480E-98E0-7F170639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EE9-4C35-45E2-8435-95CC01F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CDE-5BF2-4737-B015-6D4B5489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525-79F1-436B-B067-A86B833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DA9-1D40-426F-8986-DF9ABED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1D2-A9ED-4C06-A54E-7F88FC6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CDB22-EE23-4918-811D-653E23E69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