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26253"/>
        <c:axId val="38388254"/>
      </c:barChart>
      <c:catAx>
        <c:axId val="30726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88254"/>
        <c:crosses val="autoZero"/>
        <c:auto val="1"/>
        <c:lblAlgn val="ctr"/>
        <c:lblOffset val="100"/>
        <c:noMultiLvlLbl val="0"/>
      </c:catAx>
      <c:valAx>
        <c:axId val="38388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26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82D-7028-4E8B-95AF-A1CFBEBC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076-8335-4B0A-8FA5-2CF92831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BCD-6D37-4E17-BF94-EF17356F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E33-D738-4680-9B27-06E83ECD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E93-D4E0-471E-AD53-3FD8BB06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10D-2020-4BB1-A941-741DA9BB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36D-4290-4C9A-8ACD-9C31AE9C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452-6721-4E3A-A230-7E57E8AF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664-6EEC-4FB0-AB82-DE7FFB07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F0F-BE08-45D2-B9CD-6A681A8C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705-49D4-40EE-8023-3B94484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67D-5C63-4081-A42B-A715F91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E433C-D6C8-4045-91B5-C1CB9A5C4A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