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326768"/>
        <c:axId val="37200074"/>
      </c:barChart>
      <c:catAx>
        <c:axId val="123267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200074"/>
        <c:crosses val="autoZero"/>
        <c:auto val="1"/>
        <c:lblAlgn val="ctr"/>
        <c:lblOffset val="100"/>
        <c:noMultiLvlLbl val="0"/>
      </c:catAx>
      <c:valAx>
        <c:axId val="372000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3267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EE2B-BBDE-489C-97B7-B64ED9807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1552-E21B-420A-AB90-EB60A761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3F98-525C-4F33-A83B-7D2FE1518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51F4-F5E4-4FDB-AB58-61C343F85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D69C-8DD8-4574-87EA-FF1ADF05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33DB-4241-4C3D-B9C9-16B7BF0F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A2F6-0B6F-4AF5-9259-CC65ECBC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6235-648C-4024-A5BD-0ACC111E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6C15-E84B-4A06-8610-2847D7FD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5673-45B1-4018-865A-6EA9B590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6242-17F6-4120-8250-1231C11A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205F-649F-43B3-B23A-648F12D5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CFBA5C-C093-47DF-96CC-8226C3794D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