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53631"/>
        <c:axId val="55646270"/>
      </c:barChart>
      <c:catAx>
        <c:axId val="65753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46270"/>
        <c:crosses val="autoZero"/>
        <c:auto val="1"/>
        <c:lblAlgn val="ctr"/>
        <c:lblOffset val="100"/>
        <c:noMultiLvlLbl val="0"/>
      </c:catAx>
      <c:valAx>
        <c:axId val="55646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53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AB2-7286-422D-8899-9F638D8F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7A7-7BB1-4032-9A2A-E57FDC33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690-C0B3-43BE-BFC4-76D61CF6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0A1-1AE8-48D6-89D6-2E77F2AC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AF4-DD6F-4BCB-9BC6-6BB4423F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460-81F6-4C36-B694-169A9178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78D-70C5-40C1-902A-DB1462F7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123-DF26-4C4A-9E3E-4B77E44D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A31-A268-4AB5-940D-22909CF3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F09-F2FF-44D8-BAAD-D3E43CF6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3B2-E07A-48F5-A2F6-02F4ED0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117-5EC3-46BF-B084-D6D9AF7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ECE72-7E01-436C-95D2-7F00F42DA8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