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298468"/>
        <c:axId val="21854122"/>
      </c:barChart>
      <c:catAx>
        <c:axId val="692984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854122"/>
        <c:crosses val="autoZero"/>
        <c:auto val="1"/>
        <c:lblAlgn val="ctr"/>
        <c:lblOffset val="100"/>
        <c:noMultiLvlLbl val="0"/>
      </c:catAx>
      <c:valAx>
        <c:axId val="218541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2984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2B7B-273A-43F6-A582-CA3B58410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1B05-27F5-4ED5-89D0-54B5ED38A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AFDF-166B-47BA-8DA0-B1E18130B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7623-6221-47E7-AC9B-A4ADAFA3B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302F-AB6D-4289-8FD7-89ABB1E61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2802-EF39-4C2C-A8DA-571854EC6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BA57-989A-4ED9-837E-3EA4DDEAF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AF8E-E1FA-4B57-BBED-F972B8F58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854B-69B9-4880-BF37-F38E04578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6271-FAB0-44EB-9964-FB37DB43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9BE3-9826-41CE-B059-4DB638BAF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747A-59FC-4E3D-A956-D0B1456DD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1A2E37-364D-4318-BC6D-2A638935D68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