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0638"/>
        <c:axId val="50771438"/>
      </c:barChart>
      <c:catAx>
        <c:axId val="71860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71438"/>
        <c:crosses val="autoZero"/>
        <c:auto val="1"/>
        <c:lblAlgn val="ctr"/>
        <c:lblOffset val="100"/>
        <c:noMultiLvlLbl val="0"/>
      </c:catAx>
      <c:valAx>
        <c:axId val="50771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0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636-F660-4DFA-BA85-D520B81A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605-3C6E-4EC0-B0BB-D174D2F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5FA-A5BC-4058-A7DD-5D77B5D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E39-EC8B-4D89-91FB-B3A0DDCD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0C2-C7F4-402F-86C4-49F09122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085-A0BC-4980-BA5C-703800A3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61A-845D-48D6-862C-A27F525B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299-D64E-437A-BF45-421E857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EB6-ED58-4ABC-A389-D86216D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B9D-379F-466E-A53E-6AE57DD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FFF-96FC-4D8A-AA6D-5FF2712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EAC-B133-4EC7-94E6-9068803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CB445-3740-4482-BD9F-8817B6856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