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01847"/>
        <c:axId val="17462104"/>
      </c:barChart>
      <c:catAx>
        <c:axId val="96901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62104"/>
        <c:crosses val="autoZero"/>
        <c:auto val="1"/>
        <c:lblAlgn val="ctr"/>
        <c:lblOffset val="100"/>
        <c:noMultiLvlLbl val="0"/>
      </c:catAx>
      <c:valAx>
        <c:axId val="17462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01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59C-EC62-4814-9688-4B893A04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809-0CF2-4C46-B462-1E063151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94C-9B33-4929-A5CC-08B04318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ED6-B896-48C0-82CF-9A071000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BD5-34E6-4F20-98C5-F8BBFFBC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8FE-0626-4835-905C-58C9B9EA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75D-991E-4742-A020-8F5911EA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092-8D0F-4BC3-A614-B818D442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990-5D4E-4D12-B947-754FDF9D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27E-D2F0-4C89-8D71-DA4F099D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57C0-C702-4DF6-9C34-1B4E1194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5FE-74DE-44A8-A5A0-B1CB569D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AB0C9-67BD-4A70-9FB4-79D2EE21E3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