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0492"/>
        <c:axId val="98445484"/>
      </c:barChart>
      <c:catAx>
        <c:axId val="8290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5484"/>
        <c:crosses val="autoZero"/>
        <c:auto val="1"/>
        <c:lblAlgn val="ctr"/>
        <c:lblOffset val="100"/>
        <c:noMultiLvlLbl val="0"/>
      </c:catAx>
      <c:valAx>
        <c:axId val="98445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0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327-E074-45FD-9819-7328A28D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79C-0BDA-4C8B-89CD-05890EC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F75-A6B0-4CB8-8B4B-64D8C0D5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681-C692-421C-BE17-FE859E89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C75-41B0-4184-9CF0-634FAA24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A16-6737-4D80-9615-D1899D7A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6BF-8F0C-4876-ABD7-F1FE4557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CA5-7CC4-4E92-9683-88B1E431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097-F47B-4B08-935A-7D1085C6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B7D-840D-4601-8943-4513F19E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86B-D4A8-41B9-9BFD-8267FDC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B06-CFAB-451B-8FB3-EBB643BC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6B00-5263-46EA-A407-AE3EB12FB1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