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35303"/>
        <c:axId val="74186464"/>
      </c:barChart>
      <c:catAx>
        <c:axId val="58235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86464"/>
        <c:crosses val="autoZero"/>
        <c:auto val="1"/>
        <c:lblAlgn val="ctr"/>
        <c:lblOffset val="100"/>
        <c:noMultiLvlLbl val="0"/>
      </c:catAx>
      <c:valAx>
        <c:axId val="741864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35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A2E-ACE9-4369-AC68-408D32C1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CBE-069E-4263-927B-FC6E1276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B08-C7E6-489F-9EC4-9A196021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617-E409-4A78-AC6F-C3B4E535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4D8-B008-48C8-94A9-F0FC1921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122-1AAD-404C-BD76-249D1645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412-7D8B-41DC-8DF4-2ACB6AB5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E4F-6E0C-4A76-97E2-B1F62105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052-F8D7-4079-8FBF-528A21CE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800-E735-4EAE-9863-24208A7C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ACD-3F28-4B63-9354-E71B059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D6A-8011-4810-9C47-350F73D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A409F-DC52-48D9-B5E5-ABFC8229D9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