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06532"/>
        <c:axId val="33762040"/>
      </c:barChart>
      <c:catAx>
        <c:axId val="90206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62040"/>
        <c:crosses val="autoZero"/>
        <c:auto val="1"/>
        <c:lblAlgn val="ctr"/>
        <c:lblOffset val="100"/>
        <c:noMultiLvlLbl val="0"/>
      </c:catAx>
      <c:valAx>
        <c:axId val="33762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06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6E9-0F17-489B-824F-B49857E7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621-5865-4D4A-8233-149D7F0F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EBD-2E16-45B1-9B26-A84E99E5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4F0-A1EB-4426-9FEF-A2955F05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636-2945-4F2B-9760-7C781EC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463-B939-4353-9F3E-CF33E6CC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634-8426-4916-8D8D-143C229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B8E-440C-48ED-9C41-2C4C26B5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647-A905-4928-A638-F3DCB880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23D-2862-405B-BB2F-869B421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631-2061-4770-B45B-8F87974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4CC-EE5C-4E1F-A314-23DA753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8F1E-9A48-4766-9B1E-112D4E664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